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18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24.jpeg" ContentType="image/jpeg"/>
  <Override PartName="/ppt/media/image3.jpeg" ContentType="image/jpeg"/>
  <Override PartName="/ppt/media/image17.jpeg" ContentType="image/jpe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6E5F-FF26-4EB9-ACD3-4CFDF4F88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5D60-6A79-49F3-8D6D-F7368FD40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DDCA-04E0-467E-9981-7A9F0E6FE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9730-E383-4294-B898-4B3989D49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3F188-1E26-4CBA-BBC1-8FA8D77FB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8B572-15ED-46BD-82C7-08C7F4794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46064-6D62-4AE7-BBBF-BC8D4366D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5DC0A-AE50-4021-9BB8-AAC2F7DA2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36C9B-757F-4C26-8727-7F719F191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B04E0-48CD-4234-B933-08FD3F2C8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30CB9-C799-4B55-BDB8-84CB9D473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F688-9BB4-4F7D-A106-2D757DEBC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1BBD3-E387-441D-8833-DFB5BAB7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2112F-F6B0-4140-AA50-D4A4CDE4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BFD34-7370-4C84-AE39-EA77DDE78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CA5F2-7B6C-4658-BD99-B0BF1E5CB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267AF-FBA8-41FC-AF2A-2BFD1C85D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39C8-DED6-4E7D-BD23-EC9189BF2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EDDB-F50F-4B10-B50A-0D1722722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7DA6-5278-4F53-8699-F44C42BB1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63E6-68AD-4CCD-BC73-D5023B7CB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FDBA-3B7A-4A11-B5B3-3191B808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172A-631A-47CA-ADD3-64A1A9F33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1D3C-AC47-4227-BE01-6229E1311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EAD15-515C-47C5-A176-97E7A4230E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2C328-5E12-4284-A84D-34DDEEC73B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2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NAISS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OLITICAL TURMOIL IN ITALY EASED BY MID-15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54100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olitical history of Italy in the 1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early 1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enturies was one of constant turm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ity-states were threatened by foreign invaders, internal conspiracies, and popular revo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y mid-1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entury three trends emerg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) Greater governmental consolidation and 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 Balance of power between competing city-sta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) The rise of signorial ru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730840" y="1828800"/>
            <a:ext cx="3171960" cy="3733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715000" y="571500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ancesco Sforza seized power in Milan in the mid-1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entu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457560" y="152280"/>
            <a:ext cx="65530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THE ART OF DIPLOMAC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48320" y="2819520"/>
            <a:ext cx="44956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leaders of the Italian city-states were the first to perfect the art of diplom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tant warfare called for constant alliances and by the end of the 1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entury, most city-states had ambassad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715000" y="0"/>
            <a:ext cx="2514600" cy="2502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228600" y="2819520"/>
            <a:ext cx="4343400" cy="34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ERCENARY SOLD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-360" y="3428640"/>
            <a:ext cx="5257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alian city-states hired their soldiers as contract lab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ercenary armies, whose leaders were known as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dottier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from the name of their contract), were expensive to maint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638680" y="1828800"/>
            <a:ext cx="3276720" cy="50292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1219320" y="0"/>
            <a:ext cx="23112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HE END OF ITALIAN HEGEMONY, 1450-152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2209680" y="1447920"/>
            <a:ext cx="4953240" cy="27604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426672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pite significant cultural and economic accomplishments during the Renaissance, Italy faced increasing political and military un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hopeful sign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e Peace of Lodi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pact signed in 1454 between the 5 major city-states kept internal peace on the peninsula for 40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side invasion was another 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OTTOMANS THREATEN ITA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48320" y="13712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ost remarkable military leader of the age was the Ottoman prince, Mehmed II (1451-148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hmed II conquered Constantinople (1453) and Athens (1456) and threatened R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nice, however, was most directly affected by the Ottoman adv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28600" y="1676520"/>
            <a:ext cx="4343400" cy="39225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28600" y="5638680"/>
            <a:ext cx="43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1453 Siege of Constantinople (painted 1499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4692600" cy="64008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52880" y="0"/>
            <a:ext cx="4191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-FIGHTING PREVENTS UNIFIED DEF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257800" y="1752480"/>
            <a:ext cx="3886200" cy="47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talian city-states may have been able to repel the eastern threat had they been able to unite in opposing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Wars of Italy (1494-1529) prevented any unified front against foreign inva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Wars of Italy began when Naples, Florence, and The Papal States united against Mi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lan sought help from the Fren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rmy of French and Swiss mercenaries, led by Charles VIII of French, invaded in 1494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FRENCH SWEPT TO VICTORY IN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ITA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45720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in a year, Charles VIII had defeated Florence, Papal States, and Na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t, Venice and the pope called on King Ferdinand of Aragon and the Holy Roman Emperor to help defeat the Fre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inal blow to Italian hegemony was the sack of Rome in 1527 by German mercen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572000" y="1095480"/>
            <a:ext cx="4267080" cy="26938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4572000" y="4064040"/>
            <a:ext cx="4267080" cy="27939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4267080" y="373392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es from the sack of Rome, 15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ONCLUDING THOUGHTS ON THE RENAISS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266720" y="1599840"/>
            <a:ext cx="48769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naissance was an era of magnificent Italian artistic accomplis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rrowing heavily from the classical era, the Renaissance created lasting legacies with the ideas of Humanism and practical politic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alian politics in reality was not as cohesive as its culture, as a lack of unity ultimately led to its dem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3863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HUMANISTS IMP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514600" y="1143000"/>
            <a:ext cx="6629400" cy="3664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50292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umanists brought the study of liberal arts into the service of the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lla’s philological studies had a huge impact on diplom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hiavelli’s work created modern politic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umanists created a demand for learning that led to a growth in universities, the spread of literacy, and the rise of prin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52280" y="1600200"/>
            <a:ext cx="2438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rly Printing Press Invented by Johannes Gutenberg around 1450--The printing press made the mass publication and circulation of literature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WHY ITALY THE CENTER OF POWER IN THE 15TH CENTU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Geograph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Italy was the center for exchange of goods between the East and the 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ort cities of Genoa and Venice became great maritime powers (spices, minera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rade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lan specialized in metal cra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orence was a financial center and traded in fine luxury g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ity-states were self-sufficient agricultural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04920" y="1843200"/>
            <a:ext cx="4267080" cy="44812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04920" y="5410080"/>
            <a:ext cx="259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ices were critical to Italian domination of t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HE POLITICS OF THE ITALIAN CITY-ST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4495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absence of a central authority in Italy, resulting from the collapse of the HRE and the papal schism, meant guilds and confraternites to transform themselves into self-governing city-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648320" y="2057400"/>
            <a:ext cx="42764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274680"/>
            <a:ext cx="81532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THE FIVE POW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hough their were dozens of Italian city-states, five emerged as dominate powers on the penins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a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Only city-state with a hereditary mon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Spaniard Alfonso I of Aragon (1442-1458) established peace after a struggle for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2019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APAL STAT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52520" y="2286000"/>
            <a:ext cx="4038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apal Stat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whose capital was Rome, were nominally under the control of the chu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largely independent territories included thriving city-states of Bologna, Ferrara, and Urb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n in Rome the church had to contend with powerful noble famil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28600" y="2057400"/>
            <a:ext cx="4495680" cy="39895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 flipH="1">
            <a:off x="2895480" y="2514600"/>
            <a:ext cx="24386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6400800" y="228600"/>
            <a:ext cx="1639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4800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FLOREN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57200" y="1676520"/>
            <a:ext cx="4176720" cy="441936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7960" y="233208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orenc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the center of Renaissance culture, was one of the wealthiest cites in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minally, a Republic, Florence was dominated by the principal banking family, the Medi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2209680" y="2666880"/>
            <a:ext cx="2819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5562720" y="228600"/>
            <a:ext cx="3047760" cy="19652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33520" y="60958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orence was built on money and the wool t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000000"/>
                </a:solidFill>
                <a:uFillTx/>
                <a:latin typeface="Arial"/>
              </a:rPr>
              <a:t>MIL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438280" y="1295280"/>
            <a:ext cx="4114800" cy="30639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4419720"/>
            <a:ext cx="861048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ila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the major city in Lombardo, was landlocked, thus the major economic focus was northward toward the Alp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ost warlike of the city-states, Milan was run by a despotic family (Viscont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523880" y="1980720"/>
            <a:ext cx="236232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6896160" y="0"/>
            <a:ext cx="2247840" cy="14540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19240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5627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000000"/>
                </a:solidFill>
                <a:uFillTx/>
                <a:latin typeface="Arial"/>
              </a:rPr>
              <a:t>VENIC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1523880"/>
            <a:ext cx="4264200" cy="44960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495680" y="2438280"/>
            <a:ext cx="4648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Veni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situated at the top of the Adriatic Sea, was the leading maritime power of the 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’s position in relation to Constantinople gave Venice a great source of w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public was rules by a hereditary elite – headed by an electe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og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or chief magis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2514240" y="2438280"/>
            <a:ext cx="21337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6032520"/>
            <a:ext cx="4343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wealth of Venice was based on a thriving spice trade, the government was an oligarchy run by rich merch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5486400" y="152280"/>
            <a:ext cx="335268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02:49:36Z</dcterms:created>
  <dc:creator>Susan Gregory</dc:creator>
  <dc:description/>
  <dc:language>en-US</dc:language>
  <cp:lastModifiedBy>Saddleback  High</cp:lastModifiedBy>
  <dcterms:modified xsi:type="dcterms:W3CDTF">2007-10-04T19:10:53Z</dcterms:modified>
  <cp:revision>50</cp:revision>
  <dc:subject/>
  <dc:title>RENAISSANCE</dc:title>
</cp:coreProperties>
</file>